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projctor.wav" ContentType="audio/x-wav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AB55-1AB6-4DD6-A5A5-8DDF5EA51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4F8F-6AB4-4D74-B67D-C36873B41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10B9-82D8-4739-8C2A-3ABEB4C43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6A36-F305-4EB3-8FD6-A55999BB0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3D48-2528-4717-BB29-4652264A5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5C7D-8033-4B5B-B745-C9B397A95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8243-7064-49A3-9ABB-4DFC40D1D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1BC3-B296-49FA-AA13-92B28B572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B482-A5D8-4F4C-83FE-EB2703361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0AED-703E-48C2-9E2D-0D742E3E0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8A04-DE67-4857-9F24-034E909F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CB3F-B716-4AF6-BDE6-4F519FF90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7728A-E52F-4C0F-A5E6-D5A46F24B70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&#30446;&#24405;.ppt" TargetMode="External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章   异常处理和诊断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981080"/>
            <a:ext cx="800100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内容摘要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处理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++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异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MFC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异常类捕获程序异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MFC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提供的用于诊断程序的宏调式程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916400" y="6095880"/>
            <a:ext cx="607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返回目录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" name="projctor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8.3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诊断服务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74880" y="1773360"/>
            <a:ext cx="626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 使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SSER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使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VERIF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使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RAC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772400" y="6095880"/>
            <a:ext cx="107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返回第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.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使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SSER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762120"/>
            <a:ext cx="8001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这个宏的用法如下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	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	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ASSERT( booleanExpression 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其中的参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ooleanExpressio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一个表达式或指针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果参数不为真，这个宏就显示一个诊断信息对话框，并终止程序的运行。如果参数为真，它不做任何事情。诊断信息按照下面的形式显示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使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SSER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380880" y="152280"/>
          <a:ext cx="6600960" cy="575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52280"/>
                    <a:ext cx="6600960" cy="57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1600200" y="1371600"/>
            <a:ext cx="838080" cy="28195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2362320" y="4343400"/>
            <a:ext cx="2209680" cy="13716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1142640" y="1295280"/>
            <a:ext cx="2438280" cy="1981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09680" y="1295280"/>
            <a:ext cx="2057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projctor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.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使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VERIF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762120"/>
            <a:ext cx="8001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这个宏的用法如下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	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	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VERIFY( booleanExpression ) 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其中的参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ooleanExpressio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一个表达式或指针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果参数不为真，这个宏就显示一个诊断信息对话框，并终止程序的运行。如果参数为真，它不做任何事情。诊断信息的显示形式与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ASSER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相同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SSER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VERIFF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两个宏之间的差别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1219320"/>
            <a:ext cx="7924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ASSER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仅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MF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调试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ebu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版本中有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VERIFF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MF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发布版本中，它仍对参数进行测试 ，但是当参数为假时，不弹出诊断信息对话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.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使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RAC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762120"/>
            <a:ext cx="8001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这个宏的用法如下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	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	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TRACE( exp 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RAC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是一个在程序运行时跟踪变量数值的便捷方法，它的用法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Printf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完全相同，他的输出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ebu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窗口。如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3733920"/>
            <a:ext cx="6629400" cy="255996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nt m_value=10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for(int i=0;i&lt;5;i+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value++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TRACE("m_value = %d", m_valu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772400" y="6172200"/>
            <a:ext cx="107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返回第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8.1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处理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C++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60199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学习目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使用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ry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atch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row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三个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字来实现异常处理 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8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1" action="ppaction://hlinksldjump"/>
          </p:cNvPr>
          <p:cNvSpPr/>
          <p:nvPr/>
        </p:nvSpPr>
        <p:spPr>
          <a:xfrm>
            <a:off x="7772400" y="6095880"/>
            <a:ext cx="1073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返回第8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projctor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r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块：标志可能会出现异常的代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atch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块：紧跟着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r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块，里面包含了处理异常的代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hrow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块 ：抛出一个异常，激活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atch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块中相应的异常处理代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8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例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228600" y="0"/>
            <a:ext cx="9372600" cy="2663856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#include &lt;iostream.h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lass CExc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Except(int ExCod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ExCode = ExCod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nt GetCode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return m_ExCod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riva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nt m_ExCod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mai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har ch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out &lt;&lt; "at begining of try block" &lt;&lt; '\n'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out &lt;&lt; "throw 'char *' exception? (y/n):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in &gt;&gt; ch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f(ch == 'y' || ch == 'Y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throw "error description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out &lt;&lt; "throw 'int  1' exception? (y/n):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in &gt;&gt; ch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f(ch == 'y' || ch == 'Y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throw 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out &lt;&lt; "throw 'int  2' exception? (y/n):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in &gt;&gt; ch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f(ch == 'y' || ch == 'Y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throw 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out &lt;&lt; "throw 'class CException' exception? (y/n):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in &gt;&gt; ch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f(ch == 'y' || ch == 'Y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throw CExcept(5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out &lt;&lt; "throw 'double' exception? (y/n):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in &gt;&gt; ch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f(ch == 'y' || ch == 'Y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throw 3.14159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out &lt;&lt; "at end of try block(no exception thrown" &lt;&lt; '\n'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atch(char *ErrorMs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out &lt;&lt; "'char *' exception thrown; exception message: " &lt;&lt; ErrorMsg &lt;&lt; '\n'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atch(int ErrorCod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out &lt;&lt; "'int' exception thrown; exception code: " &lt;&lt; ErrorCode &lt;&lt; '\n'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atch(CExcept Excep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out &lt;&lt; "'class CExcept' exception thrown; code: " &lt;&lt; Except.GetCode() &lt;&lt; '\n'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atch(..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out &lt;&lt; "unknown type of exception thrown" &lt;&lt; '\n'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out &lt;&lt; "after last catch block" &lt;&lt; '\n'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8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解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8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280" y="914400"/>
            <a:ext cx="8686800" cy="33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如果异常在关键字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try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后面的代码块中扔出，则控制立即传出这个块，如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try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块后面有适当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atc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块，则控制传入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atc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块处理异常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atc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块前面有关键字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atc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和括号中的声明。如果这个声明中指定的类型符合产生异常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throw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语句给出的数值类型，则控制传入关键字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atc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后面的块。如果类型不符，则程序寻找另一个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atc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块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atc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块中的代码执行完毕后，控制传入块后面的第一个语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在上面的程序中，如果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try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中扔出的是字符串，则进入第一个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atc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块；如果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try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中扔出的是整型数据，则进入第二个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atc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块；如果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try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中扔出的是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Excep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类型，则进入第三个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atc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块；如果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try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中扔出的是其他类型的数据，则进入最后一个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atc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块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最后一个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atc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块的声明是一个省略号（…），而不是具体数据类型，表示该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atc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块可以接收前面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try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块扔出的任何异常，但由于没有参数，不能访问扔出异常提供的值。如果有多个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atc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块，则省略号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atc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块应该放在最后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8.2   MF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异常类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066680" y="990720"/>
          <a:ext cx="3934080" cy="56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990720"/>
                    <a:ext cx="3934080" cy="56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7772400" y="6095880"/>
            <a:ext cx="107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返回第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projctor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FileExceptio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21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三个描述异常原因的成员变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 m_cause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：包含与错误原因对应的代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 m_lOsError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：包含相关的操作系统错误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 m_strFileName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：包含出现异常的文件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2280" y="152280"/>
            <a:ext cx="899172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Verdana"/>
              </a:rPr>
              <a:t>m_cause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可能为以下值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CFileException: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on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没有错误发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CFileException: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eneri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未指定的错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CFileException: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ileNotFound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文件找不到错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CFileException: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adPath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全部或部分路径无效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CFileException: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ooManyOpenFile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超出允许打开的文件数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CFileException: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ccessDenied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不能访问文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CFileException: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validFil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试图访问一个无效的文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CFileException: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moveCurrentDi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试图删除正在操作的目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CFileException: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irectoryFul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目录个数已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CFileException: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adSeek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试图设置文件位置指针出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CFileException: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ardIO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硬件出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CFileException: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haringViolation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 共享出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CFileException: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ockViolation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试图锁定已锁定的区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CFileException: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iskFull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              磁盘空间已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CFileException: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ndOfFil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到达文件结尾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例子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2120" y="914400"/>
            <a:ext cx="7924680" cy="552348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extern char* pFileNam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 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File f( pFileName, CFile::modeCreate | CFile::modeWrite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ATCH( CFileException e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  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f( e-&gt;m_cause == CFileException::fileNotFound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      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rintf( "ERROR: File not found\n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  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else if( e-&gt;m_cause == CFileException:: diskFul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      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rintf( "ERROR: Disk full\n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  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else if( e-&gt;m_cause == CFileException:: endOfFi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      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rintf( "ERROR: End Of File\n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END_CA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5T08:31:54Z</dcterms:created>
  <dc:creator>YangGuoxing</dc:creator>
  <dc:description/>
  <dc:language>en-US</dc:language>
  <cp:lastModifiedBy>YangGuoxing</cp:lastModifiedBy>
  <dcterms:modified xsi:type="dcterms:W3CDTF">2001-08-27T01:27:28Z</dcterms:modified>
  <cp:revision>138</cp:revision>
  <dc:subject/>
  <dc:title>第四章   菜单、快捷键和控制条 </dc:title>
</cp:coreProperties>
</file>